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E776-2F70-4879-96F0-8A5B7D6A72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D9DB-DA80-4154-8896-7625378849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A037-AFC8-4347-9C98-C6D4C4C1B3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DA06-A172-40C8-9029-3CE7EF5DFF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063A-B910-424D-9B6C-ADF295D295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49B6-3434-4B1A-8AD0-54806FFDFD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97E2-39A0-440B-97F9-921C570F41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B61C-E56C-415A-A634-06744ED92C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EB2F-9DCE-458E-B658-87A3D7E738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F223-922D-470C-B351-23809DD524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E858-51C9-4397-B2C8-7489E27B0A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EEF0-E5EE-4327-A79B-DAF64EED66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BE3C-9AC1-4A3E-832B-EF42B7EEC8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CCA8-7C0C-4CD8-91E8-DBD2A628D9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0C1E-4434-4202-A7D3-E11F4DEE13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2378-4847-4DCE-88CA-F608157B79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DC63-D493-440E-914F-57F9F4F6B9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48A8-3F3C-47BF-B565-0366214D9B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FF07-55CC-4FD3-9387-C6C0DA32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E950-5237-456F-BF4C-29630D11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151D-3629-4082-A571-28AE5D2D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58F1-08EB-4EAA-8B05-A4793D10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0251-9462-4222-A088-5244FB5D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16F2-3B19-4F43-B8BC-7349B10A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FA0C-27A8-4111-BBA8-835E8001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CB90-B1D1-4747-B62A-A712CF4E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AFC6-73BD-49BD-92E4-984408FF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D62C-3A0E-4151-BD60-D1F75277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323C-280F-4D94-AC1E-5224C9A2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DD51-5D2B-4A82-937C-9D876B35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D522-576A-47D3-9FD3-4B0DE328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247B-9DD1-4C35-8C38-EEAAEF9F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5C57-A5F2-4433-91CC-8ABC765C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B763-2042-49AA-AF8E-09724B1D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6E1B-65DB-4A44-A418-B44AB5BED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DAD0F-2F5E-4B23-A703-86EC5C96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76565-A2B3-4921-AD27-6626F0DB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CD0B0-7F34-4903-8827-3F1246A8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1B193-F2EB-467D-B65F-916368D4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97201-690F-4EA7-A10D-D612CB9E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F714-8FF2-4D06-AA35-1BABD86C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8D76C-A8C4-4144-96CC-642EE72E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8A019-4EBA-444B-B58C-89C8BEB8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E2A42-6002-4CFA-BBE9-F051A529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7BD09-72A5-4222-BB2D-566F791B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1D651-95DE-44DA-9999-CDF2C35C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5130B-2CA9-449E-AF94-6D5BB61C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32196-958F-4F65-918E-CBE110B28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F53FE-9347-444F-A3DB-4FE1F47F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DB6F6-B247-4083-8961-2593556E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D6BEA-9CC6-4E66-942C-EAC6A46E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7431-6944-467B-828A-A130ABC6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E814F-B693-4420-A50E-34023116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4A1A5-E1B2-4E63-ABC0-3EEE194B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72151-354B-4CE2-99D7-F929F2E2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7B30A-53BD-4098-8CA5-CAAE6DF5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4AC8A-E1C6-4533-BA79-1DDF2161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3194B-B1C2-4CC6-84F1-0C661F18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09308-13C2-4184-9DEE-9436AD99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11A4F-C205-4FF8-8906-275209081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0C4C3-45E0-4FD4-9C49-7401BAD8B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8DB4F-AECD-4A70-B412-72DD0BA5A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78D1-7AD2-4137-B035-017703B2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E02D9-CD34-4DBB-8766-48211272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289D5-9B22-49F7-827B-AA236A4C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CFDEC-D7A4-4F29-9327-CAA059F7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64B5B-EE8F-4EE7-8C9B-58DF660E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15B64-873B-4DCF-9173-A274DEB7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A3AA7-8800-4329-9A88-44D0F71B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BCA2E-EA27-40DF-91DC-974A718F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33DE3-89F8-4178-B974-6A044B7B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B81A4-6984-4D30-916D-70DEF664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5C0E5-A492-4B56-BA25-48A44490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9406-B4F4-45CC-8EC3-ED76E9F5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C467D-2A43-4265-B6B1-DF6DE9B94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F4FE-E3CE-40D1-B4DE-783A8216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2F5B-5224-4B0E-82E5-08DDA685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7358-1758-4952-8BE0-3F76335E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88EB-2CC9-477F-B5D4-4E05D6908119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155C-FA58-4953-8B66-2EB5B5B135A5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C395-958B-4D74-9509-52179910B439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7C41-F8B4-4555-8243-47B42504390A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3b56c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3b56c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071F-9341-43B6-A738-4B419FFA4642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419D-F69C-421B-9AC7-62A500CDA219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3b56c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3b56c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1C73-464B-4197-B80C-789D7972A7D0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2360-DBBB-4C33-B8A1-82D4A6C7DC36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45E6-48B9-4952-8C5B-A294FD6FCCAC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13CD-431B-4A02-A8F9-C492C86D74F7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e48312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66"/>
                </a:solidFill>
                <a:latin typeface="Trebuchet MS"/>
                <a:ea typeface="Arial"/>
              </a:rPr>
              <a:t>Формирование стратегических альтернатив. Выбор страте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e48312"/>
                </a:solidFill>
                <a:uFillTx/>
                <a:latin typeface="Trebuchet MS"/>
              </a:rPr>
              <a:t>Стратегии лидера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Наступательная стратег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обычно применяется фирмами, стремящимися сохранить доминирующее положение на рынк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Стратегия сокращения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– обычно вынужденное средство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Оборонительная стратег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фирм-лидеров преследует прежде всего цель защитить завоеванные позиц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73548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e48312"/>
                </a:solidFill>
                <a:uFillTx/>
                <a:latin typeface="Trebuchet MS"/>
              </a:rPr>
              <a:t>Стратегии фирм, следующих за лидером</a:t>
            </a:r>
            <a:endParaRPr b="0" lang="en-US" sz="32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разумевают выбор последователем адаптивного поведения по отношению к фирме-лидеру, которое не вызывает отпора с ее сторон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оздерживаются от инициативных стратегических шагов и попыток переманить клиентов у лидер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следователи, не нарушая сферы влияния лидера, могут придерживаться стратегии фокусирования, базирующейся на дифференциации с ориентацией на высокое качество товара, а также стратегии характерного имидж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e48312"/>
                </a:solidFill>
                <a:uFillTx/>
                <a:latin typeface="Trebuchet MS"/>
              </a:rPr>
              <a:t>Стратегии фирм со слабой конкурентной позицией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центрируют усилия на одном или нескольких рыночных сегментах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бежать прямого столкновения с доминирующими фирмам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лучшают технологии с целью снижения издержек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центрируют внимание на прибыли, а не на увеличении объема продаж или доле рынк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емятся к специализации, а не к диверсифика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 u="sng">
                <a:solidFill>
                  <a:srgbClr val="e48312"/>
                </a:solidFill>
                <a:uFillTx/>
                <a:latin typeface="Trebuchet MS"/>
              </a:rPr>
              <a:t>Портфельный анализ</a:t>
            </a:r>
            <a:r>
              <a:rPr b="1" lang="ru-RU" sz="4000" spc="-1" strike="noStrike">
                <a:solidFill>
                  <a:srgbClr val="e48312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714320"/>
            <a:ext cx="822960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инструмент, с помощью которого руководство предприятия выявляет и оценивает свою хозяйственную деятельность с целью вложения средств в наиболее прибыльные или перспективные ее направления и сокращения/прекращения инвестиций в неэффективные проекты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Цель портфельного анализа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 —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гласование бизнес-стратегий и распределение финансовых ресурсов между хозяйственными подразделениями компани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e48312"/>
                </a:solidFill>
                <a:uFillTx/>
                <a:latin typeface="Trebuchet MS"/>
              </a:rPr>
              <a:t>Матрица БКГ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graphicFrame>
        <p:nvGraphicFramePr>
          <p:cNvPr id="311" name="Object 2"/>
          <p:cNvGraphicFramePr/>
          <p:nvPr/>
        </p:nvGraphicFramePr>
        <p:xfrm>
          <a:off x="179280" y="1773360"/>
          <a:ext cx="8048880" cy="43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73360"/>
                    <a:ext cx="8048880" cy="43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7777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e48312"/>
                </a:solidFill>
                <a:uFillTx/>
                <a:latin typeface="Trebuchet MS"/>
              </a:rPr>
              <a:t>Выделяют 4 группы рынков товара</a:t>
            </a:r>
            <a:endParaRPr b="0" lang="en-US" sz="32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557000"/>
            <a:ext cx="85075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637052"/>
                </a:solidFill>
                <a:uFillTx/>
                <a:latin typeface="Trebuchet MS"/>
              </a:rPr>
              <a:t>Проблемы»</a:t>
            </a: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 —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товары этой группы могут оказаться очень перспективными, поскольку рынок рас­ширяется, но требуют значительных средств для поддержа ния роста. Применительно к этой группе продуктов необходимо решить: увеличить долю рынка данных товаров или прекратить их финансировани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637052"/>
                </a:solidFill>
                <a:uFillTx/>
                <a:latin typeface="Trebuchet MS"/>
              </a:rPr>
              <a:t>«Звезды»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— это рыночные лидеры. Они приносят значительную прибыль благодаря своей конкурентоспособности, но также нуждаются в финансировании для поддержания высокой доли динамичного рынк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637052"/>
                </a:solidFill>
                <a:uFillTx/>
                <a:latin typeface="Trebuchet MS"/>
              </a:rPr>
              <a:t>«Дойные коровы»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— товары, способные принести больше прибыли, чем необходимо для поддержания их роста. Они являются основным источником финансовых средств для диверсификации и научных исследований. Приоритетная стратегическая цель — «сбор урожая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637052"/>
                </a:solidFill>
                <a:uFillTx/>
                <a:latin typeface="Trebuchet MS"/>
              </a:rPr>
              <a:t>«Собаки»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— это продукты, которые находятся в невыгодном положении по издержкам и не имеют возможностей роста. Сохранение таких товаров связано со значительными финансовыми расходами при небольших шансах на улучшение положения. Приоритетная стратегия — деинвестирование и скромное существование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e48312"/>
                </a:solidFill>
                <a:uFillTx/>
                <a:latin typeface="Trebuchet MS"/>
              </a:rPr>
              <a:t>Рекомендации Бостонской матрицы</a:t>
            </a:r>
            <a:endParaRPr b="0" lang="en-US" sz="3200" spc="-1" strike="noStrike">
              <a:solidFill>
                <a:srgbClr val="e48312"/>
              </a:solidFill>
              <a:latin typeface="Trebuchet MS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4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рын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стратеги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стратегии единицы бизнес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вестиро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везды», «Проблемы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ержи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нятие сливок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ойные коровы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тупл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инвестиро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обаки», «Проблемы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 u="sng">
                <a:solidFill>
                  <a:srgbClr val="e48312"/>
                </a:solidFill>
                <a:uFillTx/>
                <a:latin typeface="Trebuchet MS"/>
              </a:rPr>
              <a:t>Недостатки методов портфельного анализа</a:t>
            </a:r>
            <a:r>
              <a:rPr b="0" lang="ru-RU" sz="4000" spc="-1" strike="noStrike">
                <a:solidFill>
                  <a:srgbClr val="e48312"/>
                </a:solidFill>
                <a:latin typeface="Trebuchet MS"/>
              </a:rPr>
              <a:t>:</a:t>
            </a:r>
            <a:endParaRPr b="0" lang="en-US" sz="40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рудности учета границ и масштаба рынка, большое количество критерие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убъективность оценок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атичный характер модел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лишком общий характер рекомендаци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e48312"/>
                </a:solidFill>
                <a:uFillTx/>
                <a:latin typeface="Trebuchet MS"/>
              </a:rPr>
              <a:t>План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акторы выбора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Альтернативы роста крупных, средних и малых фирм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ие альтернативы в зависимости от этапа жизненного цикла отрасл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ие альтернативы в зависимости от занимаемой рыночной позиц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ртфельные методы выбора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48312"/>
                </a:solidFill>
                <a:latin typeface="Trebuchet MS"/>
              </a:rPr>
              <a:t>Факторы стратегического выбора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стояние отрасли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ыночная позиция фирмы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асштаб деятельности организации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актор времени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емлемый уровень риск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48312"/>
                </a:solidFill>
                <a:latin typeface="Trebuchet MS"/>
              </a:rPr>
              <a:t>Матрица направлений роста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pic>
        <p:nvPicPr>
          <p:cNvPr id="282" name="Рисунок 3" descr="Q:\Инна\В Г У Э С\Лекции\Стратегический менеджмент - бакалавры\media\image1.png"/>
          <p:cNvPicPr/>
          <p:nvPr/>
        </p:nvPicPr>
        <p:blipFill>
          <a:blip r:embed="rId1"/>
          <a:stretch/>
        </p:blipFill>
        <p:spPr>
          <a:xfrm>
            <a:off x="0" y="1501920"/>
            <a:ext cx="7929720" cy="5000400"/>
          </a:xfrm>
          <a:prstGeom prst="rect">
            <a:avLst/>
          </a:prstGeom>
          <a:ln w="0">
            <a:noFill/>
          </a:ln>
        </p:spPr>
      </p:pic>
      <p:sp>
        <p:nvSpPr>
          <p:cNvPr id="283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7238880" cy="8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48312"/>
                </a:solidFill>
                <a:latin typeface="Trebuchet MS"/>
              </a:rPr>
              <a:t>Сравнение преимуществ малого и крупного бизнеса</a:t>
            </a:r>
            <a:endParaRPr b="0" lang="en-US" sz="3200" spc="-1" strike="noStrike">
              <a:solidFill>
                <a:srgbClr val="e48312"/>
              </a:solidFill>
              <a:latin typeface="Trebuchet MS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571680" y="1928880"/>
          <a:ext cx="8072280" cy="4637160"/>
        </p:xfrm>
        <a:graphic>
          <a:graphicData uri="http://schemas.openxmlformats.org/drawingml/2006/table">
            <a:tbl>
              <a:tblPr/>
              <a:tblGrid>
                <a:gridCol w="4036680"/>
                <a:gridCol w="4035600"/>
              </a:tblGrid>
              <a:tr h="367920"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ые пред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ые пред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24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бкая структура, не отягощенная прошлыми решениями и кадр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ь удовлетворять индивидуальные запросы клие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ная интенсивность труда и высокая корпоративность трудового коллекти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 мобильность в вопросах стратегии развития, в том числе в области использования некапиталоемких достижений НТ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 скорость оборота ресур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7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крупного капитала дает возможность расширять сферы своей деятельности путем различных форм экспансии (диверсификация, интеграц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7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ие объемы производства позволяют добиться эффекта масштаба и тем самым снизить издерж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7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ь проведения НИОКР и маркетинговых исследов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7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высокопроизводительной тех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85716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48312"/>
                </a:solidFill>
                <a:latin typeface="Trebuchet MS"/>
              </a:rPr>
              <a:t>Стратегии развития малого предприятия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pic>
        <p:nvPicPr>
          <p:cNvPr id="288" name="Рисунок 3" descr="Q:\Инна\В Г У Э С\Лекции\Стратегический менеджмент - бакалавры\media\image3.png"/>
          <p:cNvPicPr/>
          <p:nvPr/>
        </p:nvPicPr>
        <p:blipFill>
          <a:blip r:embed="rId1"/>
          <a:stretch/>
        </p:blipFill>
        <p:spPr>
          <a:xfrm>
            <a:off x="0" y="2276640"/>
            <a:ext cx="8429760" cy="3929040"/>
          </a:xfrm>
          <a:prstGeom prst="rect">
            <a:avLst/>
          </a:prstGeom>
          <a:ln w="0">
            <a:noFill/>
          </a:ln>
        </p:spPr>
      </p:pic>
      <p:sp>
        <p:nvSpPr>
          <p:cNvPr id="28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тратегия копирования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-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оперативного, быстрого реагирования на рыночную конъюнктуру, при которой малая фирма выбирает независимую форму существования (суверенитет) и предлагает рынку продукт, подобный продукту крупной фирм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тратегия оптимального размера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стратегия находит свое применение в тех отраслях, где крупное производство неэффективно, прибыль невелика по масштабам крупных фирм, высоки расходы, связанные с добавленной стоимостью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тратегия участия в продукте крупной фирмы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малые фирмы используют возможности, связанные с политикой дезинтеграции, проводимой крупными компаниями, отказывающимися от собственного мелкого промежуточного производства внутри фирмы, которое редко бывает эффективным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тратегия использования преимуществ крупной фирмы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примером такой стратегии служит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франчайзинг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как форма интеграции малого и крупного бизнеса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e48312"/>
                </a:solidFill>
                <a:latin typeface="Trebuchet MS"/>
              </a:rPr>
              <a:t>Особенности стратегии средних фирм</a:t>
            </a:r>
            <a:endParaRPr b="0" lang="en-US" sz="4000" spc="-1" strike="noStrike">
              <a:solidFill>
                <a:srgbClr val="e48312"/>
              </a:solidFill>
              <a:latin typeface="Trebuchet MS"/>
            </a:endParaRPr>
          </a:p>
        </p:txBody>
      </p:sp>
      <p:pic>
        <p:nvPicPr>
          <p:cNvPr id="293" name="Рисунок 3" descr="Q:\Инна\В Г У Э С\Лекции\Стратегический менеджмент - бакалавры\media\image4.png"/>
          <p:cNvPicPr/>
          <p:nvPr/>
        </p:nvPicPr>
        <p:blipFill>
          <a:blip r:embed="rId1"/>
          <a:stretch/>
        </p:blipFill>
        <p:spPr>
          <a:xfrm>
            <a:off x="108000" y="2060640"/>
            <a:ext cx="8143920" cy="4429080"/>
          </a:xfrm>
          <a:prstGeom prst="rect">
            <a:avLst/>
          </a:prstGeom>
          <a:ln w="0">
            <a:noFill/>
          </a:ln>
        </p:spPr>
      </p:pic>
      <p:sp>
        <p:nvSpPr>
          <p:cNvPr id="29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7743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 u="sng">
                <a:solidFill>
                  <a:srgbClr val="e48312"/>
                </a:solidFill>
                <a:uFillTx/>
                <a:latin typeface="Trebuchet MS"/>
              </a:rPr>
              <a:t>Выбор стратегии в зависимости от стадии ЖЦО</a:t>
            </a:r>
            <a:endParaRPr b="0" lang="en-US" sz="2900" spc="-1" strike="noStrike">
              <a:solidFill>
                <a:srgbClr val="e48312"/>
              </a:solidFill>
              <a:latin typeface="Trebuchet MS"/>
            </a:endParaRPr>
          </a:p>
        </p:txBody>
      </p:sp>
      <p:pic>
        <p:nvPicPr>
          <p:cNvPr id="296" name="Рисунок 3" descr="Q:\Инна\В Г У Э С\Лекции\Стратегический менеджмент - бакалавры\media\image5.png"/>
          <p:cNvPicPr/>
          <p:nvPr/>
        </p:nvPicPr>
        <p:blipFill>
          <a:blip r:embed="rId1"/>
          <a:stretch/>
        </p:blipFill>
        <p:spPr>
          <a:xfrm>
            <a:off x="212760" y="1554120"/>
            <a:ext cx="8785080" cy="5102280"/>
          </a:xfrm>
          <a:prstGeom prst="rect">
            <a:avLst/>
          </a:prstGeom>
          <a:ln w="0">
            <a:noFill/>
          </a:ln>
        </p:spPr>
      </p:pic>
      <p:sp>
        <p:nvSpPr>
          <p:cNvPr id="29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10:31:12Z</dcterms:created>
  <dc:creator>И.В.</dc:creator>
  <dc:description/>
  <dc:language>en-US</dc:language>
  <cp:lastModifiedBy>Толя</cp:lastModifiedBy>
  <dcterms:modified xsi:type="dcterms:W3CDTF">2014-12-01T07:11:05Z</dcterms:modified>
  <cp:revision>15</cp:revision>
  <dc:subject/>
  <dc:title>Theme 8</dc:title>
</cp:coreProperties>
</file>